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9B6-6537-4C46-A651-73ED64C8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2BBA-A39D-4866-89F2-14A9C659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E3C7-4F92-4A3C-BCBF-12821C07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3B5-39B8-42E9-B3A3-0A159A2D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007B-642F-40E4-81DC-307DB56F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B0A1-E627-4E5D-84A2-DB05A4A8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F5A9-D865-41EF-8CD3-119D439E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0B8-091B-46E1-952E-A7EE510F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0415-AFDB-42CA-B632-51C0DBD9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802F-C1F8-447F-865B-37D830F7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2CD-C905-48F5-9383-B9392541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9D7-CD4E-4301-BD7C-D9B1FCC9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EA26-0202-4BE9-92E5-E84D307C0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0" y="34920"/>
            <a:ext cx="9102600" cy="24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______________________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838080"/>
          <a:ext cx="9117000" cy="5796000"/>
        </p:xfrm>
        <a:graphic>
          <a:graphicData uri="http://schemas.openxmlformats.org/drawingml/2006/table">
            <a:tbl>
              <a:tblPr/>
              <a:tblGrid>
                <a:gridCol w="1219320"/>
                <a:gridCol w="1523880"/>
                <a:gridCol w="1693800"/>
                <a:gridCol w="1855800"/>
                <a:gridCol w="1595520"/>
                <a:gridCol w="1228680"/>
              </a:tblGrid>
              <a:tr h="17784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pic comple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s did not adequately cover any the topics:  background, family life, life as writ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s did not adequately cover 2 of the topics:  background, family life, life as writ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s did not adequately cover one of the topics:  background, family life, life as writ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s adequately covered the topics present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mmar accura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 errors make meaning completely unclear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t significantly hinder meaning in some instances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ly understandable, with errors that may impede comprehensibi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ly correct mistakes do not impede comprehensi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s control of grammar with only minor mistakes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s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s used less than 3 vocabulary ter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s used 3 or 4 vocabulary ter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s used only 5 or 6 vocabulary ter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s used all 7 vocabulary ter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 and f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riters demonstrate average to below average writing techniques – no opening paragraph or choppy flow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riters demonstrate good writing techniques with a good opening paragraph, which flows into subsequent paragraphs 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hensi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ain idea is unclear due to irrelevant details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r clearly conveys the main idea, providing details and fulfilling all of the requiremen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of Express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is consistent with a mid - novice level speake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is consistent with a high novice level speake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takes risks to manipulate the language and elaborate at an intermediate low level of proficien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s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adequate and inaccurate use of vocabul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inaccurate use of vocabulary and/or too basic for the level.   No or little vocabulary from our list was used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use of vocabulary with little or no variety. Some vocabulary from our list was used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and varied use of vocabulary .  Vocabulary from our was used consistently and correctl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Box 1"/>
          <p:cNvSpPr/>
          <p:nvPr/>
        </p:nvSpPr>
        <p:spPr>
          <a:xfrm>
            <a:off x="7010280" y="152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/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20:35:31Z</dcterms:created>
  <dc:creator>Alissa Hart</dc:creator>
  <dc:description/>
  <dc:language>en-US</dc:language>
  <cp:lastModifiedBy>Alissa Hart</cp:lastModifiedBy>
  <dcterms:modified xsi:type="dcterms:W3CDTF">2015-02-20T17:10:50Z</dcterms:modified>
  <cp:revision>4</cp:revision>
  <dc:subject/>
  <dc:title>PowerPoint Presentation</dc:title>
</cp:coreProperties>
</file>